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403F-741F-404B-832D-CE3D9A44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4C76-EA84-4D7E-A308-C2A85215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AB1B-40E1-4409-958C-33BBF2F9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B826-70B2-4E5D-9439-7F8AFB70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68BB-0071-48AA-9956-92D60099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B56B-92B2-4DA1-8C60-CBCF2E09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557B-75B5-4AA7-81EA-ED3AE6A2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BA8F-A574-43D9-A0B4-8A7383A7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749E-37E4-4364-BF07-D4F18F02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52B8-EC7E-4D63-87B1-51F910C7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F975-0EBA-4E26-86FD-7483CFDF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5DB5-5F09-425C-8D1D-88B202B9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5890-6F36-40C6-92F8-566B4062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7538-5198-477A-B7DB-7F136E96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EAEC-DB8D-4057-89FF-E2D97573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6070-9A9A-4353-A66F-585B2134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F865-59F5-45B6-8E40-ECD2FCEC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BA720-BA49-43CD-9B03-D31D6D5B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EEF7C-186B-4668-904F-25B36039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5A807-B7A9-4515-AE48-6EA44CA8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56D4F-671B-4DF2-9723-2AB04D77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A2697-7836-4B46-923D-6C80331F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510B-3F00-4F7F-93C4-5D89D939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78359-88E2-4547-BE45-0FFDD1C3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E4D74-4604-40BC-804D-D6141400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334C9-3973-46F0-AC6B-D8ACB375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6C7C1-BDA1-4816-B2DA-339B2011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AE9F8-F53E-4746-B233-68EFD9BE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D2382-0366-4BE4-89F8-7C9C6E53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EEE7C-4EB0-4861-9727-92EF5226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417DC-77E5-42E9-BD70-F5DADA5F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CAF59-7BBE-4226-989B-8DF61479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9D88E-0476-450D-8D03-46E9F137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66A5-E4D0-4216-BF47-8C2EE5BE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317F4-D49E-426D-AE36-24623C7F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2A599-83FA-49E1-9BA7-6E0407E3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F713E-A995-4987-9563-D9F39BE5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4D2A0-3E30-4676-8E8F-0339256A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7F32B-EF08-4AA9-8713-C16EE423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22AB9-04B4-4105-A5E4-C64371FD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25F72-A2EA-4A85-90FB-65772D5C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7419E-CAE9-4DC7-BD35-1D958E95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79B37-06B6-4E90-A1D2-80AEEFAE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A4A7-8656-4637-B1B6-7408CCF0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9501-E322-43D8-AE01-7FC92D2A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EB06-C3E6-431E-A693-EE71BC51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F9B4-94BD-40AE-8177-8DF3126B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8F42-7512-4205-B662-D45E697C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AD82-CE7E-4A90-AACF-F68C1DAF012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7C22-DBE2-4D73-8A3C-DC502D77A74B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CD1F-E125-4274-A9E1-3E8BE6FA62C5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B98E-EF92-4117-A568-A299DB91CF9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gse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gse.org/content/blogcategory/15/37/" TargetMode="Externa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gse.org/content/blogcategory/16/38/" TargetMode="Externa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GSE – Application Requirement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lication process is purposely rigoro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member there will be more qualified applicants than there are spaces avail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to “sell” yourself to be notic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ollow application guidelines exact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is the applicant’s responsibility to make sure the application has been filed in a timely and complete fashion, with the appropriate Intermediate Unit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SE – Application Proc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pplications available after Oct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gin by November 1, gathering your materials, information, selection of audition pieces (PGSA only), writing and rewriting essay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AP, ask appropriate staff for letters of recommendation – provide them with materials and information prepared abo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missions of completed applications vary by school, plan to be done by Jan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leted applications to Guidance Counselors at least 2 days prior to “postmark” deadline,  Guidance will then mail them ou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PGSA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PGS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PGSGE PGSHC PGSIST PGSIS PGSS PG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rounds for Disqual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eligible (see each schools applicatio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ateness of applic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ilure to send application to correct offi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complete –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all parts must be in at same time)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lsification of inform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t abiding by application guideli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 not add unnecessary or neglect required it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SE Additional 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fo on each scho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wnloadable application materi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lpful Hints for applica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equently Asked Questions (FAQ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GSE Calend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GSE “At a Glance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ruce Guenther, Gifted Education Teach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guenther@berwicksd.org  759-6400 x314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rs. Heather Melito, Guidance Counselo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melito@berwicksd.org   759-6400 x 310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st updated 23 October 200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he Pennsylvania Governor’s Schools of Excellenc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23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ct. 2008.  The Pennsylvania Governor’s Schools of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cellence.  23 Oct. 2008 &lt; http://www.pgse.org &gt;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0280" y="1195560"/>
            <a:ext cx="818028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r. Bruce Guenth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ifted Education Teach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erwick Area High Schoo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Pennsylvania Governor’s Schools of Excellence (</a:t>
            </a:r>
            <a:r>
              <a:rPr b="0" lang="en-US" sz="36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GSE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academically or artistically talented students, including the gifted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but, not exclusively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ve week, intensive, residential, program held during the summ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ld on different college campuses, based on career fiel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ition, room &amp; board transportation, incidentals paid by famil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SE - FY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lication process is purposely rigoro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member there will be more qualified applicants than there are spaces avail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ider application a two year proc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may apply to no more than TWO    Pa. Governor’s Sch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SE Alumni from BH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stiny Deater - 2008 PG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sh Gallagher - 2008 PG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ristin Kemmerer - 2008 PGSH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livia DiPasquale - 2007 PGS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rista Johnson - 2007 PG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im Gerlach – 2006 PG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mily Odgrin – 2006 PG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rie Brown – 2005 PGSH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uane Swank - 2005 PGSA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link to Application Process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GSGE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– Global Entrepreneurship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high University, Bethlehem, P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n to Sophomores and Juni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eld: Business, finance, e-commerce (with recognition of globalization of economi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ommendation by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usiness or Social Studies teacher,      English teacher and Guidance Counsel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link to Application Proces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GSHC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– Health Ca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versity of Pittsburgh, Pittsburgh, P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n to JUNIORS on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human Health Care fiel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ommendations by: Science teacher, one other teacher, and Guidance Counsel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quires: Service Leadership Project in Health C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link to Application Proces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GSE Application Requirement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vel I (All applicants) Paper Applica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sonal Data Fo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arrative Statement (1 p. essay to introduce yourself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ra-curricular resume (1-2 p. resum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ief Essay (2 p. essay based on “school’s” promp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tters of Recommendation (3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cript, Report Card, Attendance, Stndrd. Tes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vel II – (semifinalists, selected from L 1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ve Auditions or Interview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pplies to all “schools” except the AR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GSA Application Requirement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milar to other PGSE, School of the Arts requir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sonal Data She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arrative (1 p. essay to introduce yourself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ever, The PGS of the Arts (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PGS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es NOT require teacher recommend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Nor a resume, nor a Chief Essa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ES REQUIRE an artistic work samp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rtistic recording or portfoli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ommends “hand” delivery of application to CSI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9:28:33Z</dcterms:created>
  <dc:creator>Guenther Family</dc:creator>
  <dc:description/>
  <dc:language>en-US</dc:language>
  <cp:lastModifiedBy>End User</cp:lastModifiedBy>
  <dcterms:modified xsi:type="dcterms:W3CDTF">2011-01-07T15:25:34Z</dcterms:modified>
  <cp:revision>36</cp:revision>
  <dc:subject/>
  <dc:title>Pennsylvania Governor’s Schools of Excellence </dc:title>
</cp:coreProperties>
</file>